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05000" y="685440"/>
            <a:ext cx="2448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1AE-B799-47A7-B6C2-6D550125E8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205000" y="685800"/>
            <a:ext cx="2448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FFA-F920-49EB-8268-6A950858C5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C51-25DE-4D39-8C46-7F04C908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55048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48F-E2B9-4223-8D9B-C4DF13F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3D1-77C9-4ABE-8811-32C87AF4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BE7-7FDB-4941-9004-22198D07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213-A649-4246-9A27-6DC0D746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95D-209C-49EB-8794-711AE12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CE1-967E-43F0-973F-5873A61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90E-3E34-484C-B8AD-50EBCD07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3760"/>
            <a:ext cx="6172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3B9-60D9-4429-A418-7A475E8E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65A-3B78-4247-87C3-66B2FEA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F46-9298-4709-910E-844DE6F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D9D-EE1F-413A-9EBC-CA20F04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899560"/>
            <a:ext cx="1600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899560"/>
            <a:ext cx="217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899560"/>
            <a:ext cx="1600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B3FF-40C2-46B7-9BEB-8AFAF5CA30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3078000"/>
          <a:ext cx="5715000" cy="2103480"/>
        </p:xfrm>
        <a:graphic>
          <a:graphicData uri="http://schemas.openxmlformats.org/drawingml/2006/table">
            <a:tbl>
              <a:tblPr/>
              <a:tblGrid>
                <a:gridCol w="609840"/>
                <a:gridCol w="582480"/>
                <a:gridCol w="45226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he three smaller components that make up atoms are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, protons and 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, electrons and prot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rotons, ions and electr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electrons, neutrons and 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3124080"/>
          <a:ext cx="5715000" cy="2286000"/>
        </p:xfrm>
        <a:graphic>
          <a:graphicData uri="http://schemas.openxmlformats.org/drawingml/2006/table">
            <a:tbl>
              <a:tblPr/>
              <a:tblGrid>
                <a:gridCol w="609480"/>
                <a:gridCol w="582480"/>
                <a:gridCol w="4523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 of the following lists the two particles found together inside the nucleus of an at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hotons and 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 and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rotons and neu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Electrons and pro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533520" y="3124080"/>
          <a:ext cx="5715000" cy="2468520"/>
        </p:xfrm>
        <a:graphic>
          <a:graphicData uri="http://schemas.openxmlformats.org/drawingml/2006/table">
            <a:tbl>
              <a:tblPr/>
              <a:tblGrid>
                <a:gridCol w="609480"/>
                <a:gridCol w="582480"/>
                <a:gridCol w="452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 neutral atom has an equal number of positive and negative charges.  If a neutral fluorine atom has 9 protons and 10 neutrons, how many electrons will it hav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3124080"/>
          <a:ext cx="5224320" cy="246852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408132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If an atom has six positively charged subatomic particles, which of the following must it also have in order to become a neutral at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welve pro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Six neu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hree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Six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533520" y="3124080"/>
          <a:ext cx="5715000" cy="2286000"/>
        </p:xfrm>
        <a:graphic>
          <a:graphicData uri="http://schemas.openxmlformats.org/drawingml/2006/table">
            <a:tbl>
              <a:tblPr/>
              <a:tblGrid>
                <a:gridCol w="533160"/>
                <a:gridCol w="658800"/>
                <a:gridCol w="4523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you change the number of neutrons in an atom, you will also change its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t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20:39:50Z</dcterms:created>
  <dc:creator>Ryan</dc:creator>
  <dc:description/>
  <dc:language>en-US</dc:language>
  <cp:lastModifiedBy>Kara Jordan</cp:lastModifiedBy>
  <dcterms:modified xsi:type="dcterms:W3CDTF">2015-08-18T23:38:48Z</dcterms:modified>
  <cp:revision>28</cp:revision>
  <dc:subject/>
  <dc:title>PowerPoint Presentation</dc:title>
</cp:coreProperties>
</file>